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ED538-5B40-4E2D-B740-A23AD5D2A9E0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3AE17-FD9F-43EA-824E-E170C89B25EE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3AC4-3679-4BA8-8F19-207F37A0A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49D6-D2E7-4091-A8C8-6DA3E768B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1C6B-5E3E-46A0-9851-6242BDFED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2DE3-09B4-47B6-8FB3-5DDF74C30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162B-CE62-4ACA-9530-2F2C2784F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A1D7-84EE-4C37-89F5-094378302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807E-F9C7-4C9C-8150-269342AE9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1BDE-0B2D-4FE2-9905-5680084F9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AEC3-A2EA-4303-ABB4-E2BD6F628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8A57-BFE9-483E-BE60-06AD0CDCF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BABF-1BFE-4621-A35D-12698EB3A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77A5-94D3-43C3-83D8-2FBA698D0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839D5-5DC7-415B-8A0B-1CE8CE07FD6A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2481120"/>
          <a:ext cx="6205680" cy="124164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  <a:gridCol w="1143000"/>
                <a:gridCol w="714600"/>
                <a:gridCol w="718920"/>
                <a:gridCol w="1297080"/>
                <a:gridCol w="54936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4287960"/>
          <a:ext cx="6215040" cy="107316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78040"/>
                <a:gridCol w="695160"/>
              </a:tblGrid>
              <a:tr h="23292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5359320"/>
          <a:ext cx="6215040" cy="201312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719280"/>
                <a:gridCol w="695160"/>
              </a:tblGrid>
              <a:tr h="36612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3718080"/>
          <a:ext cx="6215040" cy="56808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19548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191448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357120" y="70344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1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357120" y="736776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987480"/>
                <a:gridCol w="1081080"/>
                <a:gridCol w="1008000"/>
                <a:gridCol w="1871640"/>
                <a:gridCol w="69516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* </a:t>
            </a: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7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3"/>
          <p:cNvSpPr/>
          <p:nvPr/>
        </p:nvSpPr>
        <p:spPr>
          <a:xfrm>
            <a:off x="5801760" y="35712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경력사원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기재 필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1"/>
          <p:cNvSpPr/>
          <p:nvPr/>
        </p:nvSpPr>
        <p:spPr>
          <a:xfrm>
            <a:off x="2746800" y="214200"/>
            <a:ext cx="137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2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계속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6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476280" y="509760"/>
          <a:ext cx="5952960" cy="26524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52380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2868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Rectangle 1"/>
          <p:cNvSpPr/>
          <p:nvPr/>
        </p:nvSpPr>
        <p:spPr>
          <a:xfrm>
            <a:off x="412920" y="7918200"/>
            <a:ext cx="5945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5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76280" y="3435480"/>
          <a:ext cx="5952960" cy="227952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227952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0" name="Picture 240" descr=""/>
          <p:cNvPicPr/>
          <p:nvPr/>
        </p:nvPicPr>
        <p:blipFill>
          <a:blip r:embed="rId1"/>
          <a:stretch/>
        </p:blipFill>
        <p:spPr>
          <a:xfrm>
            <a:off x="474840" y="4608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" name=""/>
          <p:cNvGraphicFramePr/>
          <p:nvPr/>
        </p:nvGraphicFramePr>
        <p:xfrm>
          <a:off x="500040" y="585792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3286080" y="6864480"/>
          <a:ext cx="3143160" cy="981000"/>
        </p:xfrm>
        <a:graphic>
          <a:graphicData uri="http://schemas.openxmlformats.org/drawingml/2006/table">
            <a:tbl>
              <a:tblPr/>
              <a:tblGrid>
                <a:gridCol w="785880"/>
                <a:gridCol w="785880"/>
                <a:gridCol w="785880"/>
                <a:gridCol w="785520"/>
              </a:tblGrid>
              <a:tr h="287280"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96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승진년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연봉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센티브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제외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500040" y="6858000"/>
          <a:ext cx="2722680" cy="987480"/>
        </p:xfrm>
        <a:graphic>
          <a:graphicData uri="http://schemas.openxmlformats.org/drawingml/2006/table">
            <a:tbl>
              <a:tblPr/>
              <a:tblGrid>
                <a:gridCol w="841320"/>
                <a:gridCol w="1881360"/>
              </a:tblGrid>
              <a:tr h="28908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연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7T02:54:13Z</dcterms:modified>
  <cp:revision>143</cp:revision>
  <dc:subject/>
  <dc:title>슬라이드 1</dc:title>
</cp:coreProperties>
</file>